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wmf" ContentType="image/x-wmf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2056-265D-4225-BE90-9285366DAA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8A36-D58C-4426-BBC1-8FF6D1BA1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CA71-3872-4377-8751-FA47FFC6B4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DC24-54B6-4ED5-A8C8-6C5C4220DE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DA40-4EC4-40B5-9849-24A08C1CF4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782C-2655-4CD0-8D38-07431022E1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04D8-0BBA-446F-BE0C-8DCA076959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0510-9F58-4420-B89F-7ECB5B65A6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Unité 3 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66960" y="2155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ité 3 – Home Sweet Home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2895480" y="3809880"/>
            <a:ext cx="4070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 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55600" y="129528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Il y a une lampe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525a28"/>
                </a:solidFill>
                <a:latin typeface="Times New Roman"/>
              </a:rPr>
              <a:t>(nouveau) 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4052880"/>
            <a:ext cx="85341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il y a une nouvelle lam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6745320" y="744480"/>
            <a:ext cx="2386080" cy="2016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876240" y="5518080"/>
            <a:ext cx="8534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d an adjective from part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315200" cy="18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Il y a un tapis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525a28"/>
                </a:solidFill>
                <a:latin typeface="Times New Roman"/>
              </a:rPr>
              <a:t>(petit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il y a un petit tap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990720" y="5294160"/>
            <a:ext cx="85341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d an adjective from part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6477120" y="299880"/>
            <a:ext cx="228600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 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3152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C’est une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(beau) 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09560" y="3962520"/>
            <a:ext cx="853452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c’est une belle armo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876240" y="5518080"/>
            <a:ext cx="8534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d an adjective from part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6615000" y="152280"/>
            <a:ext cx="21481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 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31520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J’aime mes 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04920" y="4052880"/>
            <a:ext cx="853416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me mes jolies étagères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6877080" y="179280"/>
            <a:ext cx="1968480" cy="19684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6"/>
          <p:cNvSpPr/>
          <p:nvPr/>
        </p:nvSpPr>
        <p:spPr>
          <a:xfrm>
            <a:off x="3378960" y="262080"/>
            <a:ext cx="4093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876240" y="5518080"/>
            <a:ext cx="8534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d an adjective from part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 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67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(grand) 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67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04920" y="4114800"/>
            <a:ext cx="8458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l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971800" cy="1670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876240" y="5518080"/>
            <a:ext cx="8534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d an adjective from part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Avec un partenaire Writing- Speaking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71600" y="1294920"/>
            <a:ext cx="7391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Vous allez voir 3 photos de 3 chambres différentes.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hoisissez une chambre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Décrivez les différents meubles en utilisant le maximum d’adjectifs que vous pouvez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Utilisez aussi des prépositions.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Vous allez lire votre description à un autre groupe qui doit deviner de quelle chambre vous parlez!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60" name="Content Placeholder 3" descr=""/>
          <p:cNvPicPr/>
          <p:nvPr/>
        </p:nvPicPr>
        <p:blipFill>
          <a:blip r:embed="rId1"/>
          <a:stretch/>
        </p:blipFill>
        <p:spPr>
          <a:xfrm>
            <a:off x="1523880" y="61920"/>
            <a:ext cx="3218040" cy="29671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3378960" y="262080"/>
            <a:ext cx="4093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8596440" y="210960"/>
            <a:ext cx="33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6802560" y="3962520"/>
            <a:ext cx="409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1" descr=""/>
          <p:cNvPicPr/>
          <p:nvPr/>
        </p:nvPicPr>
        <p:blipFill>
          <a:blip r:embed="rId2"/>
          <a:stretch/>
        </p:blipFill>
        <p:spPr>
          <a:xfrm>
            <a:off x="3598920" y="3657600"/>
            <a:ext cx="32004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3"/>
          <a:stretch/>
        </p:blipFill>
        <p:spPr>
          <a:xfrm>
            <a:off x="4741920" y="81000"/>
            <a:ext cx="35686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Tips to describe a house 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01" name="Content Placeholder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305920" cy="4402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4233600" y="-359640"/>
            <a:ext cx="67680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Devine qui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http://www.wikispaces.com/site/embedthumbnail/file/FR31%20U-3%20Devine%20qui%20%282%29.doc?h=52&amp;w=320"/>
          <p:cNvPicPr/>
          <p:nvPr/>
        </p:nvPicPr>
        <p:blipFill>
          <a:blip r:embed="rId2"/>
          <a:stretch/>
        </p:blipFill>
        <p:spPr>
          <a:xfrm>
            <a:off x="0" y="0"/>
            <a:ext cx="30481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Adjectives going </a:t>
            </a:r>
            <a:r>
              <a:rPr b="1" lang="en-US" sz="4400" spc="-1" strike="noStrike">
                <a:solidFill>
                  <a:srgbClr val="e3c16b"/>
                </a:solidFill>
                <a:latin typeface="Times New Roman"/>
              </a:rPr>
              <a:t>before</a:t>
            </a: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 the noun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4233600" y="-359640"/>
            <a:ext cx="67680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Devine qui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http://www.wikispaces.com/site/embedthumbnail/file/FR31%20U-3%20Devine%20qui%20%282%29.doc?h=52&amp;w=320"/>
          <p:cNvPicPr/>
          <p:nvPr/>
        </p:nvPicPr>
        <p:blipFill>
          <a:blip r:embed="rId1"/>
          <a:stretch/>
        </p:blipFill>
        <p:spPr>
          <a:xfrm>
            <a:off x="0" y="0"/>
            <a:ext cx="3048120" cy="49536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2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6959880" cy="22096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2743200" y="4952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li- jo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Adjectifs going after </a:t>
            </a:r>
            <a:r>
              <a:rPr b="1" lang="en-US" sz="4400" spc="-1" strike="noStrike">
                <a:solidFill>
                  <a:srgbClr val="e3c16b"/>
                </a:solidFill>
                <a:latin typeface="Times New Roman"/>
              </a:rPr>
              <a:t>the</a:t>
            </a: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 noun 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4233600" y="-359640"/>
            <a:ext cx="67680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Devine qui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http://www.wikispaces.com/site/embedthumbnail/file/FR31%20U-3%20Devine%20qui%20%282%29.doc?h=52&amp;w=320"/>
          <p:cNvPicPr/>
          <p:nvPr/>
        </p:nvPicPr>
        <p:blipFill>
          <a:blip r:embed="rId1"/>
          <a:stretch/>
        </p:blipFill>
        <p:spPr>
          <a:xfrm>
            <a:off x="0" y="0"/>
            <a:ext cx="3048120" cy="49536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2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7315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adjectifs sont utilisés (used) pour décrire quelqu’un ou quelque cho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. grand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ign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intellig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s pour tous les adjectifs, il faut les accorder en genre et nomb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Genr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mascul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fémin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omb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singulier (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pluriel (x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Pratiqu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Prenez un tableau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omplétez les phrases suivantes en rajoutant l’adjectif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Attention: </a:t>
            </a:r>
            <a:r>
              <a:rPr b="1" lang="en-US" sz="3200" spc="-1" strike="noStrike">
                <a:solidFill>
                  <a:srgbClr val="525a28"/>
                </a:solidFill>
                <a:latin typeface="Times New Roman"/>
              </a:rPr>
              <a:t>Est-ce que l’adjectif va devant le nom? Ou après le nom?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5a28"/>
                </a:solidFill>
                <a:latin typeface="Times New Roman"/>
              </a:rPr>
              <a:t>Accord (féminin- pluriel)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81200" y="14479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J’ai un bureau 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525a28"/>
                </a:solidFill>
                <a:latin typeface="Times New Roman"/>
              </a:rPr>
              <a:t>(vieux) 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66760" y="4084560"/>
            <a:ext cx="85345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vieux burea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762600" y="1749600"/>
            <a:ext cx="2057400" cy="1881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704880" y="5137200"/>
            <a:ext cx="853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Add an adjective of col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GREBERT,VIVIANE</cp:lastModifiedBy>
  <dcterms:modified xsi:type="dcterms:W3CDTF">2017-02-20T22:21:05Z</dcterms:modified>
  <cp:revision>103</cp:revision>
  <dc:subject/>
  <dc:title>Allez, viens! – Level 2</dc:title>
</cp:coreProperties>
</file>